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892-4CF7-421B-BE21-B55C73BF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0C1-7137-4968-835D-169D6545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C03-8850-4E3E-B478-EE866714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A5C3-76F8-496E-8E3C-C2D7C7B3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223B-2468-40A2-98BD-7EB9FB91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567A-4BA5-4F47-AA29-213C3675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57E1-6B28-4AF5-9822-51753C66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74BB-75B5-40F7-82EF-EA2B2CAE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F5B9-12CC-47F3-A09D-68F15C86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BCE7-4326-4FAF-A688-4C8BD4A1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8435-88F9-4265-9BFE-F00AAC49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BAE1-3DDB-4204-B1E7-1797A1EB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46F7-82C1-4E4E-A2BA-E4FE79AD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5413-3B89-47F4-8646-2D99A8A6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6F59-1BF7-4B95-BF15-1136748D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B1EC-83C6-43E7-9EC1-03567382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55B6-4011-4A35-800F-54051182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347-7090-411E-9283-34419BE1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165-5D2C-474B-A163-DC138D42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2948-D781-4C3E-8DBD-0112803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06D6-E91E-4D83-BF69-3A9F8B24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9D2-5C1E-419C-90D9-9F6D94B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E94-D559-4978-A0AB-E5B2DB5E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7B3-CDC2-4234-8084-05E1C48F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F9B8-10E0-4CCB-9FDE-6A548A49467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3F0-C0B2-4182-AD21-F976A3F527D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newadvent.org/cathen/04543c.htm" TargetMode="External"/><Relationship Id="rId4" Type="http://schemas.openxmlformats.org/officeDocument/2006/relationships/hyperlink" Target="http://videos.howstuffworks.com/hsw/27306-civilizations-in-conflict-the-crusades-video.htm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videos.howstuffworks.com/hsw/27306-civilizations-in-conflict-the-crusades-video.htm" TargetMode="External"/><Relationship Id="rId4" Type="http://schemas.openxmlformats.org/officeDocument/2006/relationships/hyperlink" Target="http://videos.howstuffworks.com/hsw/12187-the-medieval-era-crusades-to-the-middle-east-video.htm" TargetMode="External"/><Relationship Id="rId5" Type="http://schemas.openxmlformats.org/officeDocument/2006/relationships/image" Target="../media/image6.png"/><Relationship Id="rId6" Type="http://schemas.openxmlformats.org/officeDocument/2006/relationships/hyperlink" Target="http://www.swordsandarmor.com/images/Knights_Templar_Shields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../Crudsades-%20Cause%20and%20Effects-1.vwb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swordsandarmor.com/images/Knights_Templar_Shields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newadvent.org/cathen/04543c.htm" TargetMode="External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swordsandarmor.com/images/Knights_Templar_Shields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242560" cy="136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freemasonrywatch.org/pics/templars.jpg"/>
          <p:cNvPicPr/>
          <p:nvPr/>
        </p:nvPicPr>
        <p:blipFill>
          <a:blip r:embed="rId2"/>
          <a:stretch/>
        </p:blipFill>
        <p:spPr>
          <a:xfrm>
            <a:off x="685800" y="2171880"/>
            <a:ext cx="3382920" cy="4305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70360" y="2133720"/>
            <a:ext cx="34592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Bréhier, Louis. "Crusades." The Catholic Encyclopedia. Vol. 4. New York: Robert Appleton Company, 1908. 19 Nov. 2008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Book Antiqua"/>
                <a:hlinkClick r:id="rId3"/>
              </a:rPr>
              <a:t>http://www.newadvent.org/cathen/04543c.ht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ivilizations in Conflict. 2008.  How Stuff Works. </a:t>
            </a:r>
            <a:r>
              <a:rPr b="0" lang="en-US" sz="2000" spc="-1" strike="noStrike" u="sng">
                <a:solidFill>
                  <a:srgbClr val="ad1f1f"/>
                </a:solidFill>
                <a:uFillTx/>
                <a:latin typeface="Book Antiqua"/>
                <a:hlinkClick r:id="rId4"/>
              </a:rPr>
              <a:t>http://videos.howstuffworks.com/hsw/27306-civilizations-in-conflict-the-crusades-video.htm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usades to the Middle East.  2008.  How Stuff Work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videos.howstuffworks.com/hsw/12187-the-medieval-era-crusades-to-the-middle-east-video.ht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usades</a:t>
            </a:r>
            <a:r>
              <a:rPr b="0" i="1" lang="en-US" sz="2000" spc="-1" strike="noStrike">
                <a:solidFill>
                  <a:srgbClr val="ffffff"/>
                </a:solidFill>
                <a:latin typeface="Book Antiqua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2007.   Killeen Harker Heights Connections. http://www.killeenroos.com/2/CRUSCHAR.htm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Picture 2" descr="Knights_Templar_Shields.JPG (77615 bytes)"/>
          <p:cNvPicPr/>
          <p:nvPr/>
        </p:nvPicPr>
        <p:blipFill>
          <a:blip r:embed="rId5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0" y="144792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ch a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Book Antiqua"/>
                <a:hlinkClick r:id="rId3"/>
              </a:rPr>
              <a:t>video introducing the Crusad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ch a video on th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Book Antiqua"/>
                <a:hlinkClick r:id="rId4"/>
              </a:rPr>
              <a:t>Crusades to the Middle Ea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at includes re-enactm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d interview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Templar Knights"/>
          <p:cNvPicPr/>
          <p:nvPr/>
        </p:nvPicPr>
        <p:blipFill>
          <a:blip r:embed="rId5"/>
          <a:stretch/>
        </p:blipFill>
        <p:spPr>
          <a:xfrm>
            <a:off x="5535720" y="2133720"/>
            <a:ext cx="3608280" cy="4390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Knights_Templar_Shields.JPG (77615 bytes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2149560"/>
            <a:ext cx="8229600" cy="26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pen the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Virtual White Board Activity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reated by Robyn Thompson at CMHS.   As a class, organize the topics into the Cause and Effect char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3" descr="Knight Templar"/>
          <p:cNvPicPr/>
          <p:nvPr/>
        </p:nvPicPr>
        <p:blipFill>
          <a:blip r:embed="rId3"/>
          <a:stretch/>
        </p:blipFill>
        <p:spPr>
          <a:xfrm>
            <a:off x="3429000" y="3505320"/>
            <a:ext cx="2239920" cy="3124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Knights_Templar_Shields.JPG (77615 bytes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answer the following questions, use the information that you have already learned or go to the </a:t>
            </a:r>
            <a:r>
              <a:rPr b="0" lang="en-US" sz="28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find the answers.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need a volunteer,…someone to come up and use the annotation pen to record the class answers to the question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one else, be our class secretary and keep a written record on a piece of paper of what the first volunteer places on the virtual white boar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(if needed for research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 did the Crusades occur?  Who started the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85800" y="2971800"/>
            <a:ext cx="7848720" cy="3352680"/>
          </a:xfrm>
          <a:prstGeom prst="rect">
            <a:avLst/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(if needed for research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o went on the Crusades?  Why did they go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85800" y="2971800"/>
            <a:ext cx="7848720" cy="3352680"/>
          </a:xfrm>
          <a:prstGeom prst="rect">
            <a:avLst/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3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(if needed for research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did the Crusades effect the knights’ homeland? (Rulers, economy, citizen’s roles, etc.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was the big impact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685800" y="3581280"/>
            <a:ext cx="7848720" cy="2895840"/>
          </a:xfrm>
          <a:prstGeom prst="rect">
            <a:avLst/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d1f1f"/>
                </a:solidFill>
                <a:uFillTx/>
                <a:latin typeface="Book Antiqua"/>
                <a:hlinkClick r:id="rId2"/>
              </a:rPr>
              <a:t>Catholic Encyclopedia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(if needed for research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d the Crusades succeed or fail?  Wh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85800" y="2971800"/>
            <a:ext cx="7848720" cy="3352680"/>
          </a:xfrm>
          <a:prstGeom prst="rect">
            <a:avLst/>
          </a:prstGeom>
          <a:solidFill>
            <a:srgbClr val="ddc0b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55160" cy="143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0" y="1599840"/>
            <a:ext cx="91440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see some possible answers to the questions, go to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rusad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y did the Crusades occur?  Who started them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o went on the Crusades?  Why did they go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did the Crusades effect the knights’ homeland? (Rulers, economy, citizen’s roles, etc.)  What was the big impac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id the Crusades succeed or fail?  Why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5088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2" descr="Knights_Templar_Shields.JPG (77615 bytes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792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8:28:49Z</dcterms:created>
  <dc:creator>CABELL BOE</dc:creator>
  <dc:description/>
  <dc:language>en-US</dc:language>
  <cp:lastModifiedBy>CABELL BOE</cp:lastModifiedBy>
  <dcterms:modified xsi:type="dcterms:W3CDTF">2008-11-19T21:50:23Z</dcterms:modified>
  <cp:revision>13</cp:revision>
  <dc:subject/>
  <dc:title>The Crusades</dc:title>
</cp:coreProperties>
</file>